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21697"/>
        <c:axId val="35995299"/>
      </c:barChart>
      <c:catAx>
        <c:axId val="68621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95299"/>
        <c:crosses val="autoZero"/>
        <c:auto val="1"/>
        <c:lblAlgn val="ctr"/>
        <c:lblOffset val="100"/>
        <c:noMultiLvlLbl val="0"/>
      </c:catAx>
      <c:valAx>
        <c:axId val="35995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21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2DA-A6ED-4895-81F8-692FAD81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C0E-2374-4A12-ABD0-F4583CE6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5E8-26B7-4753-9E99-921A8659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B45-50A3-42C1-9186-83332FC6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E6B-678A-4F62-97E4-C830668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CD2-FBAB-4858-A657-4EEE5F6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52C-3FF7-44EA-BEA9-3BA3C87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2C8-4B0C-469C-9A2B-A24EA58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3F1-5EDC-4227-933F-AB484B9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7DC-5EEB-4F26-A823-52B8E3A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E44-CCC8-43E3-BD11-E5C0C50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9EA-77C4-47A2-8FDD-FDBFAB3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B1CEA-D788-438E-9E4F-A0763F121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