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1263610"/>
        <c:axId val="96690341"/>
      </c:barChart>
      <c:catAx>
        <c:axId val="9126361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6690341"/>
        <c:crosses val="autoZero"/>
        <c:auto val="1"/>
        <c:lblAlgn val="ctr"/>
        <c:lblOffset val="100"/>
        <c:noMultiLvlLbl val="0"/>
      </c:catAx>
      <c:valAx>
        <c:axId val="9669034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126361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788D1-68BE-4D8F-9EFB-358CB903E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38CB9-673F-4951-BE14-65297C51F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AEEE3-52FF-479A-B7DE-A14F55BDA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84888-269B-485C-867E-A00EA5132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F73DD-5242-4A97-AE6B-278C8AF3D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EAB19-9010-4309-9358-EB2C6D3F7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43AC7-6D7B-4BC8-A949-767582B90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4009C-0981-456E-89A2-BD46126B8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01426-6D71-4AA7-A347-CE055A3C4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8FA14-BD54-487D-95C2-D761FF1AE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CEC76-5DE3-4325-9E8C-1844BE99E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7E5EB-D9AF-4663-A272-A621780FF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148EE5-5466-4CF8-9309-F95A1C7B240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