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36149"/>
        <c:axId val="49900641"/>
      </c:barChart>
      <c:catAx>
        <c:axId val="49036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00641"/>
        <c:crosses val="autoZero"/>
        <c:auto val="1"/>
        <c:lblAlgn val="ctr"/>
        <c:lblOffset val="100"/>
        <c:noMultiLvlLbl val="0"/>
      </c:catAx>
      <c:valAx>
        <c:axId val="49900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36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739-DC54-4F2F-A357-FB00C43C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610-919F-4567-AD9A-1BC550C3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6E3-5C20-40C4-8187-D9DEA54D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229-1B51-41F6-B4E4-73EB53A8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DD8-6614-4A0C-B01B-31511311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D7D-B6E9-4421-B384-6B85BAF5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FA0-6F4B-4DA9-98CE-634F361F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C4A-2D79-4FA1-B956-227B4D3C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A80-07B8-43B6-8541-4F640E0B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DD8-009C-45DD-8179-3AB006EB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899-0780-44D7-B44C-E84779D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0D3-FB7C-4A93-904C-A64B252A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D410E-848E-464D-93E9-37F5B5E2B6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